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635-D7C5-482D-A4A9-1BDB9252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B2F-D707-485B-8A21-5789CC1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7A0-A26C-4F1E-B489-E0BDA575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716-7E3C-434F-B5B6-F77D37FA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EC8-2A50-4A05-8FB2-476A1B48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A47-80C9-476E-A2F8-ED803B0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8C55-2A42-4D2E-9A6B-7E4DD4F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4ED-790D-4B30-9406-BCA5FD47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9604-779E-4946-BC02-09C0E02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229-B842-4909-9B78-37B854E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4A29-9669-4281-B986-60564EE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E36-C070-4CC8-AE19-65C5259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CB44-7887-48BC-937C-E41E75EC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EF9-FB66-4F42-8789-6A3D956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3E11-8D64-4E6F-93A8-D9B0DE9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9CB-EB04-428F-91D0-7838080F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3849-3A95-4634-BBA2-AE60A114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1D3-B0ED-445A-BE16-70C53317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488-24AE-424B-BAE4-B46A808A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F56-E36A-4943-A0F6-DB1355E7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AE9-7B54-4D7B-A597-BF1A4B0A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B60-334E-48A0-AA5F-717963AD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259-36F3-4373-B380-C9AEAA3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6E9-B2E6-451F-A662-0757645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FDE-00B4-4460-8797-D9E27E4C5E8A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382D-02D4-4587-B291-7C85F2F3396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8ADE-DC99-491E-8528-1739648B077C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F7B9-4188-4084-8D10-9E754E2CED6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044800"/>
            <a:ext cx="495288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 PIANI DELL'OFFERTA FORMATIVA: UNA PROPOSTA DI ANALIS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19720" y="5410080"/>
            <a:ext cx="4419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ria Carmin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0500-B923-4521-AA25-AF2E90EF25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E6972D-A1D6-4238-B990-CE1ED8BE59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DUPLICE VERS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UNZIONE PROFESS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OCUMEN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oc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UTENZA ES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NFORM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OMUN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Geni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uden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11480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191120"/>
            <a:ext cx="914400" cy="976320"/>
          </a:xfrm>
          <a:custGeom>
            <a:avLst/>
            <a:gdLst>
              <a:gd name="textAreaLeft" fmla="*/ 0 w 914400"/>
              <a:gd name="textAreaRight" fmla="*/ 914760 w 914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6BB-9D88-4CA6-8C05-B144EF4C72D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BDAA3-AD2E-4E51-95EB-3870BFB58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4EE-5BCF-44D1-912D-7DFAD38FA6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0678E-6CB6-4C35-B26E-FC50FD22AF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struttura della griglia di rilev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 DIMENSIONE PROGETTUAL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3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 DIMENSIONE ORGANIZZATIV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33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 DIMENSIONE COMUNICATIV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3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 DIMENSIONE VALUTATIV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607-F237-47E7-A73F-ACB9AFDB0E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E48EF-F5C2-4EBD-A2DC-20AD96636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Arial"/>
              </a:rPr>
              <a:t>1.  DIMENSIONE PROGETTUALE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nalisi dei bisogni – Indicatori di cont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Varie metodologie e approcci – No indagini specialisti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Carenza documentazioni fonti reperimento d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nalisi delle risorse – Indicatori di ris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No sintesi risorse finanziarie e relazione POF/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Carenti organigrammi e dati personale docente e 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Genericità risorse struttur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Genesi del proget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No rilevanza e modalità relazioni esterne, dinamiche OO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ivello di progettual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Identità esplicitata, curricoli non sempre corredati da orario e crite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E6E-8941-40D2-8A18-8D6BD27187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45878-3878-48F3-A843-8057BD93E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Arial"/>
              </a:rPr>
              <a:t>2.  DIMENSIONE ORGANIZZATI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Parametri numerici della griglia non riscontrab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Parziale indicazione organigrammi e con diversificazione di crite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48E-0BFB-4777-A2DF-AD894B888F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B079-4B46-4CC0-B5BD-8EF54EAC13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Arial"/>
              </a:rPr>
              <a:t>3.  DIMENSIONE COMUNICATIVA</a:t>
            </a:r>
            <a:br>
              <a:rPr sz="48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Relazioni intra ed intersistemiche formulate solo in termini quantitati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Strumenti non esplicit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Non sempre chiara e univoca la funzione comunic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377-E34E-47A9-9435-751F4D4AF5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B04F1-7F4C-4717-96CD-26A99FC490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Arial"/>
              </a:rPr>
              <a:t>4.  DIMENSIONE VALUTATIVA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Parametri non applicabili in modo generalizz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Riferimenti a diverse tipologie di valut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Carenza di impostazioni sistematiche e azioni di miglior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41A-0EC9-458D-8D1B-462F297097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D3EBB-D620-4682-8C30-544B201F15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IL POF </a:t>
            </a:r>
            <a:br>
              <a:rPr sz="3600"/>
            </a:b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COME PIANO REGOLATORE DELLA SCUOL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Pianificare significa fare delle scel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Quali sono le scelte irrinunciabil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505320"/>
            <a:ext cx="22860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ORGANIZZ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352680"/>
            <a:ext cx="1981080" cy="1219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EDUCATI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I 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4952880"/>
            <a:ext cx="198144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GESTIO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952880"/>
            <a:ext cx="18288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VALUT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490-CCD9-4DE1-89BB-DBD1458926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8AF6E-718D-4E9A-BFE1-2D389901162D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ffcc66"/>
                </a:solidFill>
                <a:latin typeface="Arial"/>
              </a:rPr>
              <a:t>e  ancora</a:t>
            </a:r>
            <a:r>
              <a:rPr b="0" lang="it-IT" sz="32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3200"/>
            </a:b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IL POF </a:t>
            </a:r>
            <a:br>
              <a:rPr sz="3600"/>
            </a:br>
            <a:r>
              <a:rPr b="0" lang="it-IT" sz="2800" spc="-1" strike="noStrike">
                <a:solidFill>
                  <a:srgbClr val="ffcc66"/>
                </a:solidFill>
                <a:latin typeface="Arial"/>
              </a:rPr>
              <a:t>diventa</a:t>
            </a:r>
            <a:br>
              <a:rPr sz="2800"/>
            </a:b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“Progetto realizzato”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7600"/>
            <a:ext cx="34290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ROGETTI MIGLIORATI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3581280"/>
            <a:ext cx="281916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DOCUMENTAZ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876920"/>
            <a:ext cx="34290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Times New Roman"/>
              </a:rPr>
              <a:t>PREVISIONE DI SP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2EF-040D-41B1-87B4-213E731770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84CD6-B155-4EB8-864B-9D388AEAA93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Alcune informazion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nalisi 10 P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struzione modello di redazione/rilev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roposta finale (intervento scuole:prof. Stefan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E48-CF4C-4479-BB47-4EED4A05DF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C5A88-49B7-4FA9-AF18-9E3C8D12B8C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61722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Analisi effettuata: limiti</a:t>
            </a:r>
            <a:br>
              <a:rPr sz="4400"/>
            </a:b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cc66"/>
                </a:solidFill>
                <a:latin typeface="Arial"/>
              </a:rPr>
              <a:t>(in assenza di un modello di riferimento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28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SOMOGENEITA’ STRUMENTO DI RILEVAZIONE/STRUTTURA P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FFICOLTA’ DI COMPAR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ARENZA DATI OGGETTIVI E QUANTIFICABI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AEE-5AC8-41B1-A69A-1D80E7C0D9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81D3D-304C-4A85-B13F-DF9C0100FB91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Osservazione - 1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286000"/>
            <a:ext cx="601956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isi POF come strumento 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cumentazione e di pianific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648320"/>
            <a:ext cx="44956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isi del pro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276720"/>
            <a:ext cx="485640" cy="1214280"/>
          </a:xfrm>
          <a:prstGeom prst="upDownArrow">
            <a:avLst>
              <a:gd name="adj1" fmla="val 50000"/>
              <a:gd name="adj2" fmla="val 4977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EE9-6B53-418B-BD73-F7B1A3A8A4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03A5E-9911-4348-BA5D-9DF8E513C1C5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Osservazioni - 2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on giudizio o valut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icerca nuclei ricorrenti e comu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versità processi di red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Raccordo con valutazione apprendimenti e valutazione serviz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65A-0287-4D43-96D8-24CD394246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14244-A94A-4483-9FE5-87A959F603A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E 10 SCUOLE INTERESS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C. Premariacco-Ud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C. Cormons-Goriz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C.S.Giovanni-Tri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C.Meduno-Porde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 “Zardini” Pontebba-Ud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  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 “Locchi” Goriz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 “Zanella” Porcia-Porde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SIA Brugnera Sacile-Porde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SCART “Stringher” Ud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o Scientifico “Galilei” Tri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EA3-8017-475F-9267-5A5E298E36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AB259-B520-4831-8816-387AC8356BBA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 criteri di scel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quilibrata distribuzione territoriale 4 provi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resenza di tutti gli ordini scola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4191120"/>
          <a:ext cx="2286000" cy="18507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91120" y="4191120"/>
          <a:ext cx="3124080" cy="1800000"/>
        </p:xfrm>
        <a:graphic>
          <a:graphicData uri="http://schemas.openxmlformats.org/drawingml/2006/table">
            <a:tbl>
              <a:tblPr/>
              <a:tblGrid>
                <a:gridCol w="1562040"/>
                <a:gridCol w="1562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TITUTI COMPRENSI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UOLE MED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CUOLE SUPERIO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B5B-0620-4552-A6BB-9587C71850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185AC-E091-4BE2-BF07-DF619FB039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ASPETTI GENERAL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ODELLO DI RED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TRUTTURA DI RIFER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TI NUMERICI STATIST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DFE-2E10-4493-A035-FBD5A9CC36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B971B-D063-4C70-80D1-D09444FAA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MODELLO DI RED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FORMA SINTE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FORMA ANALI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E01616_" descr=""/>
          <p:cNvPicPr/>
          <p:nvPr/>
        </p:nvPicPr>
        <p:blipFill>
          <a:blip r:embed="rId1"/>
          <a:stretch/>
        </p:blipFill>
        <p:spPr>
          <a:xfrm>
            <a:off x="3505320" y="3409920"/>
            <a:ext cx="2666880" cy="25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alisi POF Pro.Va.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4FE-61D9-46C5-BEC4-57C9873E71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FD3AA-3455-421A-B4DA-C90CF80DE7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 utente soddisfatto di Microsoft Office</cp:lastModifiedBy>
  <dcterms:modified xsi:type="dcterms:W3CDTF">2003-06-04T08:47:33Z</dcterms:modified>
  <cp:revision>15</cp:revision>
  <dc:subject/>
  <dc:title>Presentazione di PowerPoint</dc:title>
</cp:coreProperties>
</file>